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6D6-1851-4EA0-A1AA-1B077F65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2B9-C6CF-4E91-B1A4-E2655450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0CB-BEBE-4B53-90CD-EF027830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831-E44E-48F0-A81C-3B63E1BB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A94F-833A-41F6-85CB-904C866F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19A-82B8-4B41-A827-A18D7D3C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59BC-F28D-4210-BA9D-7871EEB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F024-7440-4235-8423-A233B0A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7909-92A0-483A-BD47-8316565E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C2BB-027F-4DEA-86F9-73A1AAA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3696-FE98-485A-AFB4-72C8165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88F-653E-43C3-8214-FBC024E1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88B-22DF-49C1-A909-8CFF853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7EA1-3FC5-44C5-8AB8-AE4EFB4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8090-3B9D-4F68-AE78-EF6895E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86ED-6AB9-4824-8C46-0B41A19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953-E243-437E-B5D3-BFBF77D7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D21C-C00F-430E-8963-CBA4344F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0E3C-6E5B-408F-8F97-FD282DE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5757-DC5D-44E3-BB8C-13075499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C53F-57ED-431F-A127-B6103BA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635A-D7A3-4F22-8A2D-0D932B58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FF3-106D-4292-AE4B-C74A0F9B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6B5B-D20E-4EAE-951F-C015C20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0634-8B37-4C8B-A5EC-1A48CE0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2CC1-DA4E-4231-808E-B555874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EA80-390C-4D45-8A78-E045E19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D796-54FE-493B-8722-0AC71C1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7834-BDD3-4B48-B648-E008725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BA0B-F690-4FC0-B3CC-8B70F09D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1D23-C7CA-458F-9B64-03FE9B69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EB44-B533-43B1-B567-493F9F38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8E40-F13F-4F29-AF22-F178142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7CB-2178-4DA0-A016-F2DC225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5F0E-BD7F-4ED2-9288-8D94FB60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E338-EEB3-49C3-8154-3FEA9D2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BD21-66BE-4A7B-83E1-0372506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CD0F-DD5C-43C1-BC8F-7E4E448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5E97-0C44-4373-8D7A-55ABC22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DC6C-81A7-40B7-B8C9-CD96FF3E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D85DF-21BA-4D10-AB53-CBE2600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C365-468A-4D29-B66B-C2C1D7A4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1A84-3A15-4571-BD55-16D36AAC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8B79-6722-436B-B8F6-76EECF1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562-2864-4B55-AD28-DA73A07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732D-A908-46D2-A788-A43B97C9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F86D-24AC-49B4-A152-CCEE08EC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7F35-8F14-414A-8224-3450AF2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7011-4399-499B-B75B-1145D99E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1BD4-9798-449E-8CFF-7725CBAA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7ADE-B17D-4CBA-9123-F652E32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674F-E73A-4276-8EC5-80AED46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F82A7-6D55-4A35-83C3-732E2CE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8D0D-23F9-4354-BF8A-181E4C0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6E5B-1E81-4CF8-84E9-859ABAE7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3D7-AC31-465A-8088-727675C8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8703-890C-4774-97D9-A8B787B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9D56-35F7-4136-BDDD-73CB7259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4425-1096-4D8A-98E4-4B22F36D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468B7-9E62-4A12-B109-595F425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5901-8B6D-48A3-AD20-E2E0E9F5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A36B3-104C-4126-AC49-9FE65661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9373-BB81-4F49-9BA0-2536BEC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9774-414F-45EE-BF37-E5B63DF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13C9F-5CE7-48E4-93FF-7C2324FC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A318-7B3A-43B5-8DB4-229608B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60A-455C-46F5-8919-E65DB31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2F95-4C5A-4CBF-98EA-CDE3947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B472-97E9-44FD-9CDE-A3A6154E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608D6-2C64-4F66-95F8-A81F567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01E-27ED-470C-8FE7-64BC1EF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878-F15E-44B7-B541-B959B2C5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A47D-8285-4AAC-A10B-BC66D1411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FF03-3535-4423-81F4-AA65A32D2A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42E-99B5-40D0-B802-C71E945C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C1F-B738-4181-B1ED-5C043EC1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CD3B-E29E-40E8-99A9-362389ADE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1C1A-616E-4C84-A6F3-053240714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chnorati.com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meantforwork.mo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Wednesday, April 2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0932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Q’s ‘bout w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Blog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hort for “web log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site – easy to use, like writing an emai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ntries, or “posts” are made in journal style; chronological ord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comm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work / School websit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student blog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rofessional Reflective Blog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-24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acher 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-24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rofessional Reflective Journa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fferent levels of participation (Post, comment, read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, conversatio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Blog Resource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g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Edublog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lassblogmeist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s in the Classroom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heck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How can it be used in the classroom to learn 21st Century Literacy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gging – the basics of where and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room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community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web-based blog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rat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Blo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353760" y="3049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Blog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1143000"/>
            <a:ext cx="67057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Used in K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le 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(individual and coll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pts for writing / story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case exemplar work (writing and 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2209320" y="121932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chool Community Blog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226224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work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7abcd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8hij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.nbed.nb.c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leohayeshigh.nbed.nb.c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56160" y="30492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1318"/>
                </a:solidFill>
                <a:latin typeface="Arial"/>
              </a:rPr>
              <a:t>School Community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rofessional Blog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dub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Utech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rl Fis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Whip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ofessional 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rat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g “Search Eng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searches of blogs by content and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a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keywords added by author to assist search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chnorati.com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echnor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ging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due March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3 (Pages 45-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ac A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9196" t="0" r="9196" b="4981"/>
          <a:stretch/>
        </p:blipFill>
        <p:spPr>
          <a:xfrm>
            <a:off x="1981080" y="1905120"/>
            <a:ext cx="5410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Embraced by Millenial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5880" y="28954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icz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lickr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YouTub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-570600" y="1295280"/>
            <a:ext cx="88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y have stories to t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4-03T12:21:04Z</dcterms:modified>
  <cp:revision>47</cp:revision>
  <dc:subject/>
  <dc:title>Welcome to  ED3862</dc:title>
</cp:coreProperties>
</file>